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28E-10B5-4768-B713-CF824498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AC9-6DB0-43A2-9A40-070A55FB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42F-BCA8-4779-9C05-AA8CE326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5DF-5BB1-4000-8990-E7032229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CB03-607E-419F-8211-37EE1997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E770-4498-4DDA-B1CC-83FB4B3D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77D5-176E-4B8C-95AC-63D119D2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66C2-BBD6-4693-A201-9089676A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EFA6-90ED-4E3A-8220-2BAB4A40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B3C8-BD60-4D81-B4DA-98AAA0BF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8026-5D02-4186-8A59-D68E7EAF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6FD-6DE5-4B17-AF73-F3EB95F6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6102-EFF6-4240-AA44-178B735A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A8FF-1011-45A2-A1CD-DD74129D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ACC5-FE6B-449E-900A-95DB6680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4FC0-EDA9-482B-AD4A-D6420D82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955C-48D6-4FB2-BA27-2499844F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8C5-CA2F-4973-99EB-ABCC50CF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51F-CE8A-4F5F-BE0B-BC8C3ACE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D48-A9CE-422B-8D9B-287B042F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306-6CC3-47FC-99C1-8232CF40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4C8-407B-4CE6-97B1-5191777B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BDE-E4E5-4041-9A0B-8E9D0629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FFA-BE77-4F39-8D37-4FADDE20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8B56-94E2-4338-AB42-F0187A53D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2C88-2BFB-45FE-ACE4-3A2FD8B14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Creating Graph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j0282809" descr=""/>
          <p:cNvPicPr/>
          <p:nvPr/>
        </p:nvPicPr>
        <p:blipFill>
          <a:blip r:embed="rId1"/>
          <a:stretch/>
        </p:blipFill>
        <p:spPr>
          <a:xfrm>
            <a:off x="4267080" y="7621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redits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ritten by Monica Yuskaiti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981080"/>
            <a:ext cx="7467840" cy="609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lustrations fro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819520"/>
            <a:ext cx="7848720" cy="2361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l Gallery by Corel Cor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oderbund ClipArt T/Maker C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2160" y="5410080"/>
            <a:ext cx="8151840" cy="99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ing of this software must be approved by Mo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skaitis, Walter White Elementary, CU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ftware may only be used in Ceres Unified School Distri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Where Does the Information Come From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question is ask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3040" y="3429000"/>
            <a:ext cx="660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kind of ice cream do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eryone like in our clas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Gather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survey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2438280"/>
          <a:ext cx="7238880" cy="390384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co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1 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il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aw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t &amp; C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1 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cky R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bble G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5203080" y="4446360"/>
            <a:ext cx="718920" cy="2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03080" y="2617560"/>
            <a:ext cx="718920" cy="2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03080" y="3760560"/>
            <a:ext cx="718920" cy="2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esent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bar graph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71600" y="1814400"/>
            <a:ext cx="777240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esent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bar graph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47920" y="2438280"/>
          <a:ext cx="76960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438280"/>
                    <a:ext cx="7696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esent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ie chart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57200" y="2428920"/>
          <a:ext cx="77868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2428920"/>
                    <a:ext cx="77868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esent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ie chart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71600" y="2362320"/>
          <a:ext cx="7772400" cy="410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777240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esent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ine graph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47920" y="2162160"/>
            <a:ext cx="769608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esent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ictograph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2438280"/>
          <a:ext cx="7238880" cy="390384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co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il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aw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t &amp; C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cky R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bble G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FODDR087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87" name="FODDR087" descr=""/>
          <p:cNvPicPr/>
          <p:nvPr/>
        </p:nvPicPr>
        <p:blipFill>
          <a:blip r:embed="rId2"/>
          <a:stretch/>
        </p:blipFill>
        <p:spPr>
          <a:xfrm>
            <a:off x="5638680" y="243828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188" name="FODDR087" descr=""/>
          <p:cNvPicPr/>
          <p:nvPr/>
        </p:nvPicPr>
        <p:blipFill>
          <a:blip r:embed="rId3"/>
          <a:stretch/>
        </p:blipFill>
        <p:spPr>
          <a:xfrm>
            <a:off x="5943600" y="243828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89" name="FODDR087" descr=""/>
          <p:cNvPicPr/>
          <p:nvPr/>
        </p:nvPicPr>
        <p:blipFill>
          <a:blip r:embed="rId4"/>
          <a:stretch/>
        </p:blipFill>
        <p:spPr>
          <a:xfrm>
            <a:off x="6248520" y="243828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0" name="FODDR087" descr=""/>
          <p:cNvPicPr/>
          <p:nvPr/>
        </p:nvPicPr>
        <p:blipFill>
          <a:blip r:embed="rId5"/>
          <a:stretch/>
        </p:blipFill>
        <p:spPr>
          <a:xfrm>
            <a:off x="6553080" y="243828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191" name="FODDR087" descr=""/>
          <p:cNvPicPr/>
          <p:nvPr/>
        </p:nvPicPr>
        <p:blipFill>
          <a:blip r:embed="rId6"/>
          <a:stretch/>
        </p:blipFill>
        <p:spPr>
          <a:xfrm>
            <a:off x="6858000" y="243828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2" name="FODDR087" descr=""/>
          <p:cNvPicPr/>
          <p:nvPr/>
        </p:nvPicPr>
        <p:blipFill>
          <a:blip r:embed="rId7"/>
          <a:stretch/>
        </p:blipFill>
        <p:spPr>
          <a:xfrm>
            <a:off x="5334120" y="30481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3" name="FODDR087" descr=""/>
          <p:cNvPicPr/>
          <p:nvPr/>
        </p:nvPicPr>
        <p:blipFill>
          <a:blip r:embed="rId8"/>
          <a:stretch/>
        </p:blipFill>
        <p:spPr>
          <a:xfrm>
            <a:off x="5638680" y="304812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194" name="FODDR087" descr=""/>
          <p:cNvPicPr/>
          <p:nvPr/>
        </p:nvPicPr>
        <p:blipFill>
          <a:blip r:embed="rId9"/>
          <a:stretch/>
        </p:blipFill>
        <p:spPr>
          <a:xfrm>
            <a:off x="5943600" y="30481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5" name="FODDR087" descr=""/>
          <p:cNvPicPr/>
          <p:nvPr/>
        </p:nvPicPr>
        <p:blipFill>
          <a:blip r:embed="rId10"/>
          <a:stretch/>
        </p:blipFill>
        <p:spPr>
          <a:xfrm>
            <a:off x="5334120" y="37339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6" name="FODDR087" descr=""/>
          <p:cNvPicPr/>
          <p:nvPr/>
        </p:nvPicPr>
        <p:blipFill>
          <a:blip r:embed="rId11"/>
          <a:stretch/>
        </p:blipFill>
        <p:spPr>
          <a:xfrm>
            <a:off x="5638680" y="373392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197" name="FODDR087" descr=""/>
          <p:cNvPicPr/>
          <p:nvPr/>
        </p:nvPicPr>
        <p:blipFill>
          <a:blip r:embed="rId12"/>
          <a:stretch/>
        </p:blipFill>
        <p:spPr>
          <a:xfrm>
            <a:off x="5943600" y="37339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8" name="FODDR087" descr=""/>
          <p:cNvPicPr/>
          <p:nvPr/>
        </p:nvPicPr>
        <p:blipFill>
          <a:blip r:embed="rId13"/>
          <a:stretch/>
        </p:blipFill>
        <p:spPr>
          <a:xfrm>
            <a:off x="6248520" y="37339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9" name="FODDR087" descr=""/>
          <p:cNvPicPr/>
          <p:nvPr/>
        </p:nvPicPr>
        <p:blipFill>
          <a:blip r:embed="rId14"/>
          <a:stretch/>
        </p:blipFill>
        <p:spPr>
          <a:xfrm>
            <a:off x="6553080" y="373392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200" name="FODDR087" descr=""/>
          <p:cNvPicPr/>
          <p:nvPr/>
        </p:nvPicPr>
        <p:blipFill>
          <a:blip r:embed="rId15"/>
          <a:stretch/>
        </p:blipFill>
        <p:spPr>
          <a:xfrm>
            <a:off x="5334120" y="44197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201" name="FODDR087" descr=""/>
          <p:cNvPicPr/>
          <p:nvPr/>
        </p:nvPicPr>
        <p:blipFill>
          <a:blip r:embed="rId16"/>
          <a:stretch/>
        </p:blipFill>
        <p:spPr>
          <a:xfrm>
            <a:off x="5638680" y="441972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202" name="FODDR087" descr=""/>
          <p:cNvPicPr/>
          <p:nvPr/>
        </p:nvPicPr>
        <p:blipFill>
          <a:blip r:embed="rId17"/>
          <a:stretch/>
        </p:blipFill>
        <p:spPr>
          <a:xfrm>
            <a:off x="5943600" y="44197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203" name="FODDR087" descr=""/>
          <p:cNvPicPr/>
          <p:nvPr/>
        </p:nvPicPr>
        <p:blipFill>
          <a:blip r:embed="rId18"/>
          <a:stretch/>
        </p:blipFill>
        <p:spPr>
          <a:xfrm>
            <a:off x="6248520" y="44197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204" name="FODDR087" descr=""/>
          <p:cNvPicPr/>
          <p:nvPr/>
        </p:nvPicPr>
        <p:blipFill>
          <a:blip r:embed="rId19"/>
          <a:stretch/>
        </p:blipFill>
        <p:spPr>
          <a:xfrm>
            <a:off x="6553080" y="441972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205" name="FODDR087" descr=""/>
          <p:cNvPicPr/>
          <p:nvPr/>
        </p:nvPicPr>
        <p:blipFill>
          <a:blip r:embed="rId20"/>
          <a:stretch/>
        </p:blipFill>
        <p:spPr>
          <a:xfrm>
            <a:off x="6858000" y="44197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206" name="FODDR087" descr=""/>
          <p:cNvPicPr/>
          <p:nvPr/>
        </p:nvPicPr>
        <p:blipFill>
          <a:blip r:embed="rId21"/>
          <a:stretch/>
        </p:blipFill>
        <p:spPr>
          <a:xfrm>
            <a:off x="7162920" y="44197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207" name="FODDR087" descr=""/>
          <p:cNvPicPr/>
          <p:nvPr/>
        </p:nvPicPr>
        <p:blipFill>
          <a:blip r:embed="rId22"/>
          <a:stretch/>
        </p:blipFill>
        <p:spPr>
          <a:xfrm>
            <a:off x="5334120" y="51055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208" name="FODDR087" descr=""/>
          <p:cNvPicPr/>
          <p:nvPr/>
        </p:nvPicPr>
        <p:blipFill>
          <a:blip r:embed="rId23"/>
          <a:stretch/>
        </p:blipFill>
        <p:spPr>
          <a:xfrm>
            <a:off x="5638680" y="510552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209" name="FODDR087" descr=""/>
          <p:cNvPicPr/>
          <p:nvPr/>
        </p:nvPicPr>
        <p:blipFill>
          <a:blip r:embed="rId24"/>
          <a:stretch/>
        </p:blipFill>
        <p:spPr>
          <a:xfrm>
            <a:off x="5334120" y="5791320"/>
            <a:ext cx="257040" cy="56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10:24:58Z</dcterms:created>
  <dc:creator>Monica/Bob Yuskaitis</dc:creator>
  <dc:description/>
  <dc:language>en-US</dc:language>
  <cp:lastModifiedBy>Monica/Bob Yuskaitis</cp:lastModifiedBy>
  <dcterms:modified xsi:type="dcterms:W3CDTF">2000-02-06T15:03:41Z</dcterms:modified>
  <cp:revision>4</cp:revision>
  <dc:subject/>
  <dc:title>Creating Graphs</dc:title>
</cp:coreProperties>
</file>